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3.jpeg" ContentType="image/jpeg"/>
  <Override PartName="/ppt/media/image10.jpeg" ContentType="image/jpeg"/>
  <Override PartName="/ppt/media/image8.jpeg" ContentType="image/jpeg"/>
  <Override PartName="/ppt/media/image5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A6033-E82F-44E7-8DDF-DC94C6E3D6B9}" type="slidenum">
              <a:rPr b="0" lang="en-I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000000"/>
                </a:solidFill>
                <a:latin typeface="Arial"/>
              </a:rPr>
              <a:t>Bhopal Gas Traged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hopal Gas Trage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ver to you Aniket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ethyl Isocyanate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ysical  and Chemical Character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ethyl Isocyanate (C2H3N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quid fo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olatil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lourl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rong, sharp odo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lash Point – -7o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lecular weight: 57.05 dalt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oiling point (760 mm Hg): 102ºF (39.1ºC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reezing point: -49ºF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apor pressure: 348 mm Hg at 68ºF (20ºC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apor density: 1.42 (air = 1.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ater solubility: Reactive 6.7% at 68ºF (20º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lammability: Highly flammabl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lammable Range: 5.3% to 26% (concentration in air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son for Ci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hyl Isocyanate is on the Hazardous Substances List and is regulated by OSHA and cited by ACGIH, DOT, EPA and oth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on the Special Health Hazard Substance List because it is flammable and reacti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mergency In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icals Dumped by Union Carbide in Bhop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phazard dumping of Hazardous Mater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xic Materials in Soil and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ts in parts per billion (ppb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ly, Dichlorobenzenes and Trichlorobenzenes were found in the soil and water sampl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xic Materials in Soil and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d, Nickel, Copper, Chromium, Hexachlorocyclohexane and chlorobenzenes were found in soil samp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cury was found to be between 20,000 to 6,000,000 times the standard level in soi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ensation and Legal Asp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ensation of $470 million ($500 per dead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enty years of passivene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se was reviewed and put up in American Cour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W Refused Union Carbide’s Liabilities in Bhopal, Indi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,000 KIL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0,000 SEVERELY AFFEC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you thought only weap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ld cause Mass Destr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view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ongst the worst Industrail Disasters of its ti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currence: 3rd December 198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ce of occurrence: Bhopal, Madhya Pradesh, Indi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ny: Union Carbide Corpor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ical: Methyl Isocyanate (27 tons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ong the 500,000 people exposed to the gas, 20,000 have died till date and 120,000 continue to suffer devastating health effects as a result of their expos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hopal Scenar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nion Carbide Corpo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nion Carbide Corpo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arted in 1969 in bhop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osgene, Monomethlyamine, Methyl Isocyanate (MIC) and the pesticide Carbaryl, also known as Sev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aken over by DOW Chemicals in 200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OW refused Union Carbide’s Liabilities in Bhopal, Indi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xic Materials in Soil and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as Vent Scrub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as Vent Scrubber St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ffects on Human Heal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piratory Disorders – Irritation to the lungs, causing coughing and/or shortness of breathing. Higher exposure caused build up of fluids (pulmonary edema). Caused Astham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cer Hazard – Caused mutation (genetic changes). It caused canc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ductive Hazard – Association between exposure to Methyl Isocyanate and miscarriages. It may damage the growing fetus.May also affect fertility in men and wom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ces of many toxins were found in the Brest Milk of mothers and were inturn transmitted to the recepient bab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imal Slaugh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A2D8D-5CC7-49B7-8470-69AEF4A29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9CB69-6CCC-4A15-AF39-EAD95794C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E1C34-3267-4CCC-8E5E-24285CE90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32E39-FA81-45BC-8E64-635566382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1422C-D960-4697-93A1-8479950D2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B0362-51B0-4242-B4F9-F8AF63CC7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4BA6C-8651-4CA8-93C8-5FBA3C718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28B44-428E-4B0B-A033-EDF2FAA3D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77308-A467-4ED7-A6E3-6ADAB243B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CEB25-D1E8-43EB-B28F-7DA7DFB7A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4AA23-3F5F-48A3-B463-44C37D832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094FC-D061-4FBE-865C-2C3D345CA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F01D8-B2CD-4A54-ADF1-0A5D7674B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5DAFC-5F16-4FE7-8B62-306194096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D157C-1E12-4B71-8A03-F7B4C275D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73241-14E3-4AD6-97A6-7F6046D11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A24BB-3DCE-4FE0-A9C2-3A85F8A71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C6CA1C-E0B7-4A23-AB77-117CEFA84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41913E-7DBE-4BE7-8C3F-D6577524D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08CA4C-784C-4D2B-AC28-A703157C2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341782-ED8C-4B3A-A9F7-5227504A9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98DE0E-A6E8-4792-8918-74D994BEA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9B7D4-F092-4919-856B-557EF941C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61F1CB-465D-4C16-8D45-CDE6B3DDE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4CE70C-6942-4EB1-9410-1EFADCA87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D23BDC-05D5-43F3-ADC1-7C063568F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C8AB70-7119-40B1-86C1-E7E312843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954E79-64A5-44B0-A0C0-822256023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ABFBD2-ABD1-417C-912F-D7ABAD0C1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340B46-3EFA-42B2-8805-2C52882B2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D95469-9EE0-4676-82A1-F9462D081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47CC6A-AB1E-4AB2-83E8-E0E62117D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E91DBA-6C02-4F90-9FD6-7DC47F17D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A54BF-C14A-416E-B0AE-C7D71A5F9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97B016-6715-4751-B5B1-AAD92CF79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FC769C-72D3-4A87-A6D8-F440EF30F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CA6461-C8D4-4A5A-B2F1-580A6DEFF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9828BE-334F-4A2E-8A2F-86EEE1D4C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0455FF-1F3C-40C5-8F45-2593507B5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B0C99E-FF1E-4ABD-886B-3E6326926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25EFF0-F4CC-4707-AF38-46C9DFC64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13DB98-782B-4F29-9E16-DFF342003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87DF5B-605C-42E9-974B-23ABC7676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733A9-B3C4-4E4A-8FD5-AA663D624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F981F-54A2-49B6-9F89-3A6131609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6A35E-E8B0-480F-9835-135D28124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09D65-D86B-41E4-AFAA-82C25077B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DC315-1C35-4835-9552-C11FBF509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42500-E636-40FE-9254-9411CA2A0E91}" type="slidenum">
              <a:rPr b="0" lang="en-I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44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3C5D5-824C-4A59-A429-DFF134C74C6D}" type="slidenum">
              <a:rPr b="0" lang="en-I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2E6C4-7D1A-4927-8C71-8AC15197D0D7}" type="slidenum">
              <a:rPr b="0" lang="en-I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133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4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5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6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7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39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27041-C4DB-4C93-B7A7-ADC05A477754}" type="slidenum">
              <a:rPr b="0" lang="en-I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N" sz="4800" spc="-1" strike="noStrike">
                <a:solidFill>
                  <a:srgbClr val="ff6600"/>
                </a:solidFill>
                <a:latin typeface="Monotype Corsiva"/>
              </a:rPr>
              <a:t>Bhopal Gas Tragedy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000000"/>
                </a:solidFill>
                <a:latin typeface="Verdana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66280" y="320004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ctr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N" sz="3400" spc="-1" strike="noStrike">
                <a:solidFill>
                  <a:srgbClr val="ff6600"/>
                </a:solidFill>
                <a:latin typeface="Monotype Corsiva"/>
              </a:rPr>
              <a:t>Over to you Aniket…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000000"/>
                </a:solidFill>
                <a:latin typeface="Verdana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N" sz="3800" spc="-1" strike="noStrike">
                <a:solidFill>
                  <a:srgbClr val="ff6600"/>
                </a:solidFill>
                <a:latin typeface="Monotype Corsiva"/>
              </a:rPr>
              <a:t>Methyl Isocyanate </a:t>
            </a:r>
            <a:br>
              <a:rPr sz="3800"/>
            </a:br>
            <a:r>
              <a:rPr b="0" i="1" lang="en-IN" sz="3800" spc="-1" strike="noStrike">
                <a:solidFill>
                  <a:srgbClr val="ff6600"/>
                </a:solidFill>
                <a:latin typeface="Monotype Corsiva"/>
              </a:rPr>
              <a:t>Physical  and Chemical Characteristic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Verdana"/>
              </a:rPr>
              <a:t>Methyl Isocyanate (C</a:t>
            </a:r>
            <a:r>
              <a:rPr b="0" lang="en-IN" sz="18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IN" sz="1800" spc="-1" strike="noStrike">
                <a:solidFill>
                  <a:srgbClr val="000000"/>
                </a:solidFill>
                <a:latin typeface="Verdana"/>
              </a:rPr>
              <a:t>H</a:t>
            </a:r>
            <a:r>
              <a:rPr b="0" lang="en-IN" sz="1800" spc="-1" strike="noStrike" baseline="-25000">
                <a:solidFill>
                  <a:srgbClr val="000000"/>
                </a:solidFill>
                <a:latin typeface="Verdana"/>
              </a:rPr>
              <a:t>3</a:t>
            </a:r>
            <a:r>
              <a:rPr b="0" lang="en-IN" sz="1800" spc="-1" strike="noStrike">
                <a:solidFill>
                  <a:srgbClr val="000000"/>
                </a:solidFill>
                <a:latin typeface="Verdana"/>
              </a:rPr>
              <a:t>NO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Verdana"/>
              </a:rPr>
              <a:t>Liquid for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Verdana"/>
              </a:rPr>
              <a:t>Volatile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Verdana"/>
              </a:rPr>
              <a:t>Colourles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Verdana"/>
              </a:rPr>
              <a:t>Strong, sharp odou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Verdana"/>
              </a:rPr>
              <a:t>Flash Point – -7</a:t>
            </a:r>
            <a:r>
              <a:rPr b="0" lang="en-IN" sz="1800" spc="-1" strike="noStrike" baseline="30000">
                <a:solidFill>
                  <a:srgbClr val="000000"/>
                </a:solidFill>
                <a:latin typeface="Verdana"/>
              </a:rPr>
              <a:t>o</a:t>
            </a:r>
            <a:r>
              <a:rPr b="0" lang="en-IN" sz="18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Verdana"/>
              </a:rPr>
              <a:t>Molecular weight: 57.05 dalton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Verdana"/>
              </a:rPr>
              <a:t>Boiling point (760 mm Hg): 102ºF (39.1ºC)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Verdana"/>
              </a:rPr>
              <a:t>Freezing point: -49ºF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Verdana"/>
              </a:rPr>
              <a:t>Vapor pressure: 348 mm Hg at 68ºF (20ºC)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Verdana"/>
              </a:rPr>
              <a:t>Vapor density: 1.42 (air = 1.00)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Verdana"/>
              </a:rPr>
              <a:t>Water solubility: Reactive 6.7% at 68ºF (20ºC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Verdana"/>
              </a:rPr>
              <a:t>Flammability: Highly flammable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Verdana"/>
              </a:rPr>
              <a:t>Flammable Range: 5.3% to 26% (concentration in air)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000000"/>
                </a:solidFill>
                <a:latin typeface="Verdana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N" sz="3400" spc="-1" strike="noStrike">
                <a:solidFill>
                  <a:srgbClr val="ff6600"/>
                </a:solidFill>
                <a:latin typeface="Monotype Corsiva"/>
              </a:rPr>
              <a:t>Reason for Cit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700" spc="-1" strike="noStrike">
                <a:solidFill>
                  <a:srgbClr val="000000"/>
                </a:solidFill>
                <a:latin typeface="Verdana"/>
              </a:rPr>
              <a:t>Methyl Isocyanate is on the Hazardous Substances List and is regulated by OSHA and cited by ACGIH, DOT, EPA and others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700" spc="-1" strike="noStrike">
                <a:solidFill>
                  <a:srgbClr val="000000"/>
                </a:solidFill>
                <a:latin typeface="Verdana"/>
              </a:rPr>
              <a:t>Is on the Special Health Hazard Substance List because it is flammable and reactive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000000"/>
                </a:solidFill>
                <a:latin typeface="Verdana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N" sz="3400" spc="-1" strike="noStrike">
                <a:solidFill>
                  <a:srgbClr val="ff6600"/>
                </a:solidFill>
                <a:latin typeface="Monotype Corsiva"/>
              </a:rPr>
              <a:t>Emergency Inform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838080" y="1787400"/>
          <a:ext cx="7162920" cy="3776760"/>
        </p:xfrm>
        <a:graphic>
          <a:graphicData uri="http://schemas.openxmlformats.org/drawingml/2006/table">
            <a:tbl>
              <a:tblPr/>
              <a:tblGrid>
                <a:gridCol w="2362320"/>
                <a:gridCol w="2413080"/>
                <a:gridCol w="238752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Hazard Rat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NJDHS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NFP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4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mmability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activity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15840">
                <a:tc gridSpan="3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mmable and Reactiv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ison Inhalation Hazard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o not use water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isionous Gases are produced in fir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ntainers may explode in fir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IN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azard Rating Key: 0-minimal, 1-slight, 2-moderate, 3-serious, 4-sever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3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000000"/>
                </a:solidFill>
                <a:latin typeface="Verdana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6" name=""/>
          <p:cNvGraphicFramePr/>
          <p:nvPr/>
        </p:nvGraphicFramePr>
        <p:xfrm>
          <a:off x="1600200" y="762120"/>
          <a:ext cx="6248520" cy="5673600"/>
        </p:xfrm>
        <a:graphic>
          <a:graphicData uri="http://schemas.openxmlformats.org/drawingml/2006/table">
            <a:tbl>
              <a:tblPr/>
              <a:tblGrid>
                <a:gridCol w="533520"/>
                <a:gridCol w="1523880"/>
                <a:gridCol w="914400"/>
                <a:gridCol w="1143000"/>
                <a:gridCol w="2133720"/>
              </a:tblGrid>
              <a:tr h="31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.No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emical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moun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se in factory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ature of original pollut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</a:tr>
              <a:tr h="24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thylene Chlorid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 M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olven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i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</a:tr>
              <a:tr h="24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thano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0 M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olven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i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</a:tr>
              <a:tr h="24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rtho-idichlorobenze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00 M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olven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ir, Water, Soi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</a:tr>
              <a:tr h="24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arbon tetrachlorid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00 M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olven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i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</a:tr>
              <a:tr h="25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lorofor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00 M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olven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i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</a:tr>
              <a:tr h="24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ri methylami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0 M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atalys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i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</a:tr>
              <a:tr h="24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loro benzyl chlorid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 M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gredien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ir, Water, Soi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no chloro tolue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 M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gredien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ir, Water, Soi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</a:tr>
              <a:tr h="24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olue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 M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gredien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ir, Water, Soi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</a:tr>
              <a:tr h="24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dicarb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 M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duc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ir, Water, Soi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</a:tr>
              <a:tr h="24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arbary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0 M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duc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ir, Water, Soi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</a:tr>
              <a:tr h="24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enzene Hexachlorid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 M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gredien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ir, Water, Soi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</a:tr>
              <a:tr h="233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rcur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M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ater, Soi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</a:tr>
              <a:tr h="24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no methyl ami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5 M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gredien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i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</a:tr>
              <a:tr h="24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lori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 M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gredien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i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</a:tr>
              <a:tr h="24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hosge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 M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gredien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i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</a:tr>
              <a:tr h="24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ydro chloric aci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0 M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gredien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ir, Soi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</a:tr>
              <a:tr h="24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loro sulphonic aci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0 M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gredien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ir, Soi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</a:tr>
              <a:tr h="24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pha Naphthol *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0 M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gredien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ir, Soi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</a:tr>
              <a:tr h="24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apthali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0 M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gredien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i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</a:tr>
              <a:tr h="24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emical waste Tar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0 M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ast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ater, Soi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</a:tr>
              <a:tr h="24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thyl Isocyanat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 M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gredien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ir, Water, Soi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</a:tr>
            </a:tbl>
          </a:graphicData>
        </a:graphic>
      </p:graphicFrame>
      <p:sp>
        <p:nvSpPr>
          <p:cNvPr id="237" name="Text Box 769"/>
          <p:cNvSpPr/>
          <p:nvPr/>
        </p:nvSpPr>
        <p:spPr>
          <a:xfrm>
            <a:off x="304920" y="228600"/>
            <a:ext cx="83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N" sz="2400" spc="-1" strike="noStrike">
                <a:solidFill>
                  <a:srgbClr val="ff6600"/>
                </a:solidFill>
                <a:latin typeface="Monotype Corsiva"/>
              </a:rPr>
              <a:t>Chemicals Dumped by Union Carbide in Bhop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N" sz="3800" spc="-1" strike="noStrike">
                <a:solidFill>
                  <a:srgbClr val="ff6600"/>
                </a:solidFill>
                <a:latin typeface="Monotype Corsiva"/>
              </a:rPr>
              <a:t>Haphazard dumping of Hazardous Material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0" name="Picture 35" descr="cycleshed"/>
          <p:cNvPicPr/>
          <p:nvPr/>
        </p:nvPicPr>
        <p:blipFill>
          <a:blip r:embed="rId1"/>
          <a:stretch/>
        </p:blipFill>
        <p:spPr>
          <a:xfrm>
            <a:off x="609480" y="167652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36" descr="soapstoneshed"/>
          <p:cNvPicPr/>
          <p:nvPr/>
        </p:nvPicPr>
        <p:blipFill>
          <a:blip r:embed="rId2"/>
          <a:stretch/>
        </p:blipFill>
        <p:spPr>
          <a:xfrm>
            <a:off x="3276720" y="411480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37" descr="formulationshed"/>
          <p:cNvPicPr/>
          <p:nvPr/>
        </p:nvPicPr>
        <p:blipFill>
          <a:blip r:embed="rId3"/>
          <a:stretch/>
        </p:blipFill>
        <p:spPr>
          <a:xfrm>
            <a:off x="3276720" y="167652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38" descr="poisonwastetanks"/>
          <p:cNvPicPr/>
          <p:nvPr/>
        </p:nvPicPr>
        <p:blipFill>
          <a:blip r:embed="rId4"/>
          <a:stretch/>
        </p:blipFill>
        <p:spPr>
          <a:xfrm>
            <a:off x="609480" y="411480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39" descr="small-shed"/>
          <p:cNvPicPr/>
          <p:nvPr/>
        </p:nvPicPr>
        <p:blipFill>
          <a:blip r:embed="rId5"/>
          <a:stretch/>
        </p:blipFill>
        <p:spPr>
          <a:xfrm>
            <a:off x="5867280" y="167652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40" descr="bhc_store"/>
          <p:cNvPicPr/>
          <p:nvPr/>
        </p:nvPicPr>
        <p:blipFill>
          <a:blip r:embed="rId6"/>
          <a:stretch/>
        </p:blipFill>
        <p:spPr>
          <a:xfrm>
            <a:off x="5867280" y="411480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24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000000"/>
                </a:solidFill>
                <a:latin typeface="Verdana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N" sz="3400" spc="-1" strike="noStrike">
                <a:solidFill>
                  <a:srgbClr val="ff6600"/>
                </a:solidFill>
                <a:latin typeface="Monotype Corsiva"/>
              </a:rPr>
              <a:t>Toxic Materials in Soil and Water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1523880" y="1752480"/>
          <a:ext cx="5181840" cy="3276720"/>
        </p:xfrm>
        <a:graphic>
          <a:graphicData uri="http://schemas.openxmlformats.org/drawingml/2006/table">
            <a:tbl>
              <a:tblPr/>
              <a:tblGrid>
                <a:gridCol w="3084480"/>
                <a:gridCol w="2097360"/>
              </a:tblGrid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Benzene, oxybi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7, 8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</a:tr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ichlorobenzene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87,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</a:tr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olynuclear Aromatic Hydrocarbon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,3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hthalate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9,9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</a:tr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Trichlorobenzen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9,4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</a:tr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Trimethyl Trianzintrion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4,4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</a:tr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-Napthaleno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59,09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</a:tr>
            </a:tbl>
          </a:graphicData>
        </a:graphic>
      </p:graphicFrame>
      <p:sp>
        <p:nvSpPr>
          <p:cNvPr id="249" name="Rectangle 91"/>
          <p:cNvSpPr/>
          <p:nvPr/>
        </p:nvSpPr>
        <p:spPr>
          <a:xfrm>
            <a:off x="1447920" y="5181480"/>
            <a:ext cx="7086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000000"/>
                </a:solidFill>
                <a:latin typeface="Verdana"/>
              </a:rPr>
              <a:t>Units in parts per billion (ppb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000000"/>
                </a:solidFill>
                <a:latin typeface="Verdana"/>
              </a:rPr>
              <a:t>Additionally, Dichlorobenzenes and Trichlorobenzenes were found in the soil and water samples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000000"/>
                </a:solidFill>
                <a:latin typeface="Verdana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N" sz="3400" spc="-1" strike="noStrike">
                <a:solidFill>
                  <a:srgbClr val="ff6600"/>
                </a:solidFill>
                <a:latin typeface="Monotype Corsiva"/>
              </a:rPr>
              <a:t>Toxic Materials in Soil and Water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Text Box 32"/>
          <p:cNvSpPr/>
          <p:nvPr/>
        </p:nvSpPr>
        <p:spPr>
          <a:xfrm>
            <a:off x="762120" y="2209680"/>
            <a:ext cx="815328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Verdana"/>
              </a:rPr>
              <a:t>Lead, Nickel, Copper, Chromium, Hexachlorocyclohexane and chlorobenzenes were found in soil sample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Verdana"/>
              </a:rPr>
              <a:t>Mercury was found to be between 20,000 to 6,000,000 times the standard level in soil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000000"/>
                </a:solidFill>
                <a:latin typeface="Verdana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N" sz="3400" spc="-1" strike="noStrike">
                <a:solidFill>
                  <a:srgbClr val="ff6600"/>
                </a:solidFill>
                <a:latin typeface="Monotype Corsiva"/>
              </a:rPr>
              <a:t>Compensation and Legal Aspect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700" spc="-1" strike="noStrike">
                <a:solidFill>
                  <a:srgbClr val="000000"/>
                </a:solidFill>
                <a:latin typeface="Verdana"/>
              </a:rPr>
              <a:t>Compensation of $470 million ($500 per dead)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700" spc="-1" strike="noStrike">
                <a:solidFill>
                  <a:srgbClr val="000000"/>
                </a:solidFill>
                <a:latin typeface="Verdana"/>
              </a:rPr>
              <a:t>Twenty years of passiveness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700" spc="-1" strike="noStrike">
                <a:solidFill>
                  <a:srgbClr val="000000"/>
                </a:solidFill>
                <a:latin typeface="Verdana"/>
              </a:rPr>
              <a:t>Case was reviewed and put up in American Court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700" spc="-1" strike="noStrike">
                <a:solidFill>
                  <a:srgbClr val="000000"/>
                </a:solidFill>
                <a:latin typeface="Verdana"/>
              </a:rPr>
              <a:t>DOW Refused Union Carbide’s Liabilities in Bhopal, India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000000"/>
                </a:solidFill>
                <a:latin typeface="Verdana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ff6600"/>
                </a:solidFill>
                <a:latin typeface="Monotype Corsiva"/>
              </a:rPr>
              <a:t>20,000 KILLE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ff6600"/>
                </a:solidFill>
                <a:latin typeface="Monotype Corsiva"/>
              </a:rPr>
              <a:t>120,000 SEVERELY AFFECTE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ff6600"/>
                </a:solidFill>
                <a:latin typeface="Monotype Corsiva"/>
              </a:rPr>
              <a:t>…</a:t>
            </a:r>
            <a:r>
              <a:rPr b="0" i="1" lang="en-US" sz="3400" spc="-1" strike="noStrike">
                <a:solidFill>
                  <a:srgbClr val="ff6600"/>
                </a:solidFill>
                <a:latin typeface="Monotype Corsiva"/>
              </a:rPr>
              <a:t>And you thought only weapons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ff6600"/>
                </a:solidFill>
                <a:latin typeface="Monotype Corsiva"/>
              </a:rPr>
              <a:t>could cause Mass Destru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000000"/>
                </a:solidFill>
                <a:latin typeface="Verdana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N" sz="3400" spc="-1" strike="noStrike">
                <a:solidFill>
                  <a:srgbClr val="ff6600"/>
                </a:solidFill>
                <a:latin typeface="Monotype Corsiva"/>
              </a:rPr>
              <a:t>Preview</a:t>
            </a:r>
            <a:br>
              <a:rPr sz="3400"/>
            </a:br>
            <a:r>
              <a:rPr b="0" i="1" lang="en-IN" sz="3400" spc="-1" strike="noStrike">
                <a:solidFill>
                  <a:srgbClr val="ff6600"/>
                </a:solidFill>
                <a:latin typeface="Monotype Corsiva"/>
              </a:rPr>
              <a:t>Amongst the worst Industrail Disasters of its time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700" spc="-1" strike="noStrike">
                <a:solidFill>
                  <a:srgbClr val="000000"/>
                </a:solidFill>
                <a:latin typeface="Verdana"/>
              </a:rPr>
              <a:t>Occurrence: 3</a:t>
            </a:r>
            <a:r>
              <a:rPr b="0" lang="en-IN" sz="1700" spc="-1" strike="noStrike" baseline="30000">
                <a:solidFill>
                  <a:srgbClr val="000000"/>
                </a:solidFill>
                <a:latin typeface="Verdana"/>
              </a:rPr>
              <a:t>rd</a:t>
            </a:r>
            <a:r>
              <a:rPr b="0" lang="en-IN" sz="1700" spc="-1" strike="noStrike">
                <a:solidFill>
                  <a:srgbClr val="000000"/>
                </a:solidFill>
                <a:latin typeface="Verdana"/>
              </a:rPr>
              <a:t> December 1984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700" spc="-1" strike="noStrike">
                <a:solidFill>
                  <a:srgbClr val="000000"/>
                </a:solidFill>
                <a:latin typeface="Verdana"/>
              </a:rPr>
              <a:t>Place of occurrence: Bhopal, Madhya Pradesh, India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700" spc="-1" strike="noStrike">
                <a:solidFill>
                  <a:srgbClr val="000000"/>
                </a:solidFill>
                <a:latin typeface="Verdana"/>
              </a:rPr>
              <a:t>Company: Union Carbide Corporation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700" spc="-1" strike="noStrike">
                <a:solidFill>
                  <a:srgbClr val="000000"/>
                </a:solidFill>
                <a:latin typeface="Verdana"/>
              </a:rPr>
              <a:t>Chemical: Methyl Isocyanate (27 tons)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000000"/>
                </a:solidFill>
                <a:latin typeface="Verdana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80520" y="4876560"/>
            <a:ext cx="8534520" cy="93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mong the 500,000 people exposed to the gas, 20,000 have died till date and 120,000 continue to suffer devastating health effects as a result of their exposure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Group 8"/>
          <p:cNvGrpSpPr/>
          <p:nvPr/>
        </p:nvGrpSpPr>
        <p:grpSpPr>
          <a:xfrm>
            <a:off x="457200" y="304920"/>
            <a:ext cx="8381880" cy="3962160"/>
            <a:chOff x="457200" y="304920"/>
            <a:chExt cx="8381880" cy="3962160"/>
          </a:xfrm>
        </p:grpSpPr>
        <p:pic>
          <p:nvPicPr>
            <p:cNvPr id="194" name="Picture 4" descr="pic2"/>
            <p:cNvPicPr/>
            <p:nvPr/>
          </p:nvPicPr>
          <p:blipFill>
            <a:blip r:embed="rId1"/>
            <a:stretch/>
          </p:blipFill>
          <p:spPr>
            <a:xfrm>
              <a:off x="457200" y="304920"/>
              <a:ext cx="3886200" cy="3962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5" name="Picture 7" descr="pic1"/>
            <p:cNvPicPr/>
            <p:nvPr/>
          </p:nvPicPr>
          <p:blipFill>
            <a:blip r:embed="rId2"/>
            <a:stretch/>
          </p:blipFill>
          <p:spPr>
            <a:xfrm>
              <a:off x="4800600" y="304920"/>
              <a:ext cx="4038480" cy="3960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N" sz="3400" spc="-1" strike="noStrike">
                <a:solidFill>
                  <a:srgbClr val="ff6600"/>
                </a:solidFill>
                <a:latin typeface="Monotype Corsiva"/>
              </a:rPr>
              <a:t>Bhopal Scenario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8" name="Picture 3" descr="Union Carbide"/>
          <p:cNvPicPr/>
          <p:nvPr/>
        </p:nvPicPr>
        <p:blipFill>
          <a:blip r:embed="rId1"/>
          <a:stretch/>
        </p:blipFill>
        <p:spPr>
          <a:xfrm>
            <a:off x="2031840" y="1752480"/>
            <a:ext cx="5080320" cy="3645000"/>
          </a:xfrm>
          <a:prstGeom prst="rect">
            <a:avLst/>
          </a:prstGeom>
          <a:ln w="0">
            <a:noFill/>
          </a:ln>
        </p:spPr>
      </p:pic>
      <p:sp>
        <p:nvSpPr>
          <p:cNvPr id="199" name="Text Box 4"/>
          <p:cNvSpPr/>
          <p:nvPr/>
        </p:nvSpPr>
        <p:spPr>
          <a:xfrm>
            <a:off x="2057400" y="5486400"/>
            <a:ext cx="518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Verdana"/>
              </a:rPr>
              <a:t>Union Carbide Corpora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000000"/>
                </a:solidFill>
                <a:latin typeface="Verdana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N" sz="3400" spc="-1" strike="noStrike">
                <a:solidFill>
                  <a:srgbClr val="ff6600"/>
                </a:solidFill>
                <a:latin typeface="Monotype Corsiva"/>
              </a:rPr>
              <a:t>Union Carbide Corpor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700" spc="-1" strike="noStrike">
                <a:solidFill>
                  <a:srgbClr val="000000"/>
                </a:solidFill>
                <a:latin typeface="Verdana"/>
              </a:rPr>
              <a:t>Started in 1969 in bhopal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700" spc="-1" strike="noStrike">
                <a:solidFill>
                  <a:srgbClr val="000000"/>
                </a:solidFill>
                <a:latin typeface="Verdana"/>
              </a:rPr>
              <a:t>Phosgene, Monomethlyamine, Methyl Isocyanate (MIC) and the pesticide Carbaryl, also known as Sevin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700" spc="-1" strike="noStrike">
                <a:solidFill>
                  <a:srgbClr val="000000"/>
                </a:solidFill>
                <a:latin typeface="Verdana"/>
              </a:rPr>
              <a:t>Taken over by DOW Chemicals in 2001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700" spc="-1" strike="noStrike">
                <a:solidFill>
                  <a:srgbClr val="000000"/>
                </a:solidFill>
                <a:latin typeface="Verdana"/>
              </a:rPr>
              <a:t>DOW refused Union Carbide’s Liabilities in Bhopal, India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000000"/>
                </a:solidFill>
                <a:latin typeface="Verdana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N" sz="3400" spc="-1" strike="noStrike">
                <a:solidFill>
                  <a:srgbClr val="ff6600"/>
                </a:solidFill>
                <a:latin typeface="Monotype Corsiva"/>
              </a:rPr>
              <a:t>Toxic Materials in Soil and Water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6" name="Picture 15" descr="ScanImage001"/>
          <p:cNvPicPr/>
          <p:nvPr/>
        </p:nvPicPr>
        <p:blipFill>
          <a:blip r:embed="rId1"/>
          <a:srcRect l="0" t="0" r="23562" b="2161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000000"/>
                </a:solidFill>
                <a:latin typeface="Verdana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4" descr="gasventscrubber"/>
          <p:cNvPicPr/>
          <p:nvPr/>
        </p:nvPicPr>
        <p:blipFill>
          <a:blip r:embed="rId1"/>
          <a:stretch/>
        </p:blipFill>
        <p:spPr>
          <a:xfrm>
            <a:off x="609480" y="438120"/>
            <a:ext cx="3714840" cy="550548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5" descr="gasventscrubberstack"/>
          <p:cNvPicPr/>
          <p:nvPr/>
        </p:nvPicPr>
        <p:blipFill>
          <a:blip r:embed="rId2"/>
          <a:stretch/>
        </p:blipFill>
        <p:spPr>
          <a:xfrm>
            <a:off x="4800600" y="457200"/>
            <a:ext cx="3714840" cy="5372280"/>
          </a:xfrm>
          <a:prstGeom prst="rect">
            <a:avLst/>
          </a:prstGeom>
          <a:ln w="0">
            <a:noFill/>
          </a:ln>
        </p:spPr>
      </p:pic>
      <p:sp>
        <p:nvSpPr>
          <p:cNvPr id="212" name="Text Box 6"/>
          <p:cNvSpPr/>
          <p:nvPr/>
        </p:nvSpPr>
        <p:spPr>
          <a:xfrm>
            <a:off x="609480" y="6095880"/>
            <a:ext cx="358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Verdana"/>
              </a:rPr>
              <a:t>Gas Vent Scrubb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Text Box 7"/>
          <p:cNvSpPr/>
          <p:nvPr/>
        </p:nvSpPr>
        <p:spPr>
          <a:xfrm>
            <a:off x="4876920" y="611028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Verdana"/>
              </a:rPr>
              <a:t>Gas Vent Scrubber Stack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N" sz="3400" spc="-1" strike="noStrike">
                <a:solidFill>
                  <a:srgbClr val="ff6600"/>
                </a:solidFill>
                <a:latin typeface="Monotype Corsiva"/>
              </a:rPr>
              <a:t>Effects on Human Health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700" spc="-1" strike="noStrike">
                <a:solidFill>
                  <a:srgbClr val="ff6600"/>
                </a:solidFill>
                <a:latin typeface="Verdana"/>
              </a:rPr>
              <a:t>Respiratory Disorders</a:t>
            </a:r>
            <a:r>
              <a:rPr b="0" lang="en-IN" sz="1700" spc="-1" strike="noStrike">
                <a:solidFill>
                  <a:srgbClr val="000000"/>
                </a:solidFill>
                <a:latin typeface="Verdana"/>
              </a:rPr>
              <a:t> – Irritation to the lungs, causing coughing and/or shortness of breathing. Higher exposure caused build up of fluids (</a:t>
            </a:r>
            <a:r>
              <a:rPr b="0" lang="en-IN" sz="1700" spc="-1" strike="noStrike">
                <a:solidFill>
                  <a:srgbClr val="ff0000"/>
                </a:solidFill>
                <a:latin typeface="Verdana"/>
              </a:rPr>
              <a:t>pulmonary edema</a:t>
            </a:r>
            <a:r>
              <a:rPr b="0" lang="en-IN" sz="1700" spc="-1" strike="noStrike">
                <a:solidFill>
                  <a:srgbClr val="000000"/>
                </a:solidFill>
                <a:latin typeface="Verdana"/>
              </a:rPr>
              <a:t>). Caused Asthama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700" spc="-1" strike="noStrike">
                <a:solidFill>
                  <a:srgbClr val="ff6600"/>
                </a:solidFill>
                <a:latin typeface="Verdana"/>
              </a:rPr>
              <a:t>Cancer Hazard</a:t>
            </a:r>
            <a:r>
              <a:rPr b="0" lang="en-IN" sz="1700" spc="-1" strike="noStrike">
                <a:solidFill>
                  <a:srgbClr val="000000"/>
                </a:solidFill>
                <a:latin typeface="Verdana"/>
              </a:rPr>
              <a:t> – Caused mutation (genetic changes). It caused cancer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700" spc="-1" strike="noStrike">
                <a:solidFill>
                  <a:srgbClr val="ff6600"/>
                </a:solidFill>
                <a:latin typeface="Verdana"/>
              </a:rPr>
              <a:t>Reproductive Hazard</a:t>
            </a:r>
            <a:r>
              <a:rPr b="0" lang="en-IN" sz="1700" spc="-1" strike="noStrike">
                <a:solidFill>
                  <a:srgbClr val="000000"/>
                </a:solidFill>
                <a:latin typeface="Verdana"/>
              </a:rPr>
              <a:t> – Association between exposure to Methyl Isocyanate and miscarriages. It may damage the growing fetus.May also affect fertility in men and women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700" spc="-1" strike="noStrike">
                <a:solidFill>
                  <a:srgbClr val="000000"/>
                </a:solidFill>
                <a:latin typeface="Verdana"/>
              </a:rPr>
              <a:t>Traces of many toxins were found in the Brest Milk of mothers and were inturn transmitted to the recepient babies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000000"/>
                </a:solidFill>
                <a:latin typeface="Verdana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9" name="Group 8"/>
          <p:cNvGrpSpPr/>
          <p:nvPr/>
        </p:nvGrpSpPr>
        <p:grpSpPr>
          <a:xfrm>
            <a:off x="111240" y="1828800"/>
            <a:ext cx="8956080" cy="3200400"/>
            <a:chOff x="111240" y="1828800"/>
            <a:chExt cx="8956080" cy="3200400"/>
          </a:xfrm>
        </p:grpSpPr>
        <p:pic>
          <p:nvPicPr>
            <p:cNvPr id="220" name="Picture 4" descr="bhopal14"/>
            <p:cNvPicPr/>
            <p:nvPr/>
          </p:nvPicPr>
          <p:blipFill>
            <a:blip r:embed="rId1"/>
            <a:stretch/>
          </p:blipFill>
          <p:spPr>
            <a:xfrm>
              <a:off x="111240" y="1828800"/>
              <a:ext cx="4460400" cy="320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1" name="Picture 6" descr="bhopal09"/>
            <p:cNvPicPr/>
            <p:nvPr/>
          </p:nvPicPr>
          <p:blipFill>
            <a:blip r:embed="rId2"/>
            <a:stretch/>
          </p:blipFill>
          <p:spPr>
            <a:xfrm>
              <a:off x="4606560" y="1828800"/>
              <a:ext cx="4460760" cy="3200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2" name="PlaceHolder 2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N" sz="3400" spc="-1" strike="noStrike">
                <a:solidFill>
                  <a:srgbClr val="ff6600"/>
                </a:solidFill>
                <a:latin typeface="Monotype Corsiva"/>
              </a:rPr>
              <a:t>Animal Slaughter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000000"/>
                </a:solidFill>
                <a:latin typeface="Verdana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7T18:50:55Z</dcterms:created>
  <dc:creator>Creative</dc:creator>
  <dc:description/>
  <dc:language>en-US</dc:language>
  <cp:lastModifiedBy>LEGION</cp:lastModifiedBy>
  <dcterms:modified xsi:type="dcterms:W3CDTF">2017-07-03T10:07:26Z</dcterms:modified>
  <cp:revision>114</cp:revision>
  <dc:subject/>
  <dc:title>Bhopal Gas Tragedy</dc:title>
</cp:coreProperties>
</file>